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B39C-D0E0-469D-8800-7FD2D4C3C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D82-3CF2-4228-BFF4-EF3DE3FB4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BD6-BE54-40CF-A912-95E268C7476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C286-DCF1-4D92-B24C-8FF7C3D6CD2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E91A-BDAC-4B70-8BC1-B383EFBA0C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39BC-5560-41BC-96BD-52A50EB3D1C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4969-CE67-4AE2-8201-62062FB06F0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4EFE-FE35-4AF8-8997-CC8E727696F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BC15-710A-4E58-BFCB-E90314CD44E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D87C-FF21-461F-B0ED-0AE26CAEFCE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30C5-B0E6-4E35-98C2-361EF513724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7DCA-EBE6-4D67-899C-BFF89D1F8E5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318D-E4D0-4F72-82CD-48570B5104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2CBA-0582-4F3F-8599-3EA67738BBA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7971-1E44-4ED0-AF08-D217535158E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AEDA-C3C1-42A8-ADF3-DA20D0D83C1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724E-013F-498E-A335-F0622CACC3A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7DD9-A512-4A2E-8316-565FC5BE39C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2692-E58A-4FB1-8B6F-DFCD4A02BF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12FF-23E6-4537-9CE1-0CA3B30837E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A118-DD1F-47B2-B7ED-65D975D98E3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D2D8-636E-475A-9EA5-708B6F181D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73D6-68AE-4268-9B46-30C2962E19C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0774-4983-4D73-BB21-475E2443652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0E65-E94C-4148-B399-48169978FC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B8C8-5E04-4D3B-AE7F-9649E1A2649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D932-9592-40E7-A7F4-8BEE4951109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7CD9-B84E-48A8-A744-8A26C8DB35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0180-D2BA-426C-8BD6-5451BBEC543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4A90-817F-4DE6-9694-E234491587F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C8D-A444-422A-89D8-D1FAB7AD42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727F-65C4-445A-A074-ABFA69FAAF7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E98-32F4-4BE9-86CD-96BC26016B5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792A-0DE3-4343-A3A5-E9AD52D167B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7C0-BDD2-4EAD-8643-DF8450B44F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82B1-594B-4242-B2CB-FF87D5B0FB4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F075-354B-4B4B-A0A3-6791305861F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9BE2-A17A-4CF2-8F90-6BE8CACBC0B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 ПРОТИВ ХЕЛМИНТ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ОВИ ПРОТИВ ПРОТОЗОА И ЕКТОПАРАЗИ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Драган Р.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НТИМАЛАРИ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а I - асексуалне еритроцитне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лорокин, мефлокин, хинин, хинид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sid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пириметамин плус сулфадокс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трацик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а II - асексуалне еритроцитарне и примарне хепатичне форме (хипнозои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aron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Атоваквон плус прогвани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а III - примарне и латентне хепатичне форме (хипнозоити) плус гаметоц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а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ХИНОЛИНИ И ДЕРИВА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Аминохино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хлорокин, хидроксихлорокин, амодиак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Метанолхинол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лкалоиди из биљке цинхона: хинин, д-хинидин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ефлок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-Аминохино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имак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ри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халофантрин и д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ХЛОРОКИ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тималарично деј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мета секвестрацију хема (ферипротопорфирин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), оштећење мембране и макро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е напад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филакса, маларија у трудно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нфламаторно дејство: РА, 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ебицидно дејство: амебни апсц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обоља, дигестивне тегобе, сметње вида, свр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тинопатија, ототоксичност, миопатија, аритмије, менталне промен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а токсичност, мала терапијска ширина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диоваскуларни и централни симпт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ХИНИН И МЕФЛОКИ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оделујући шизонтоциди, делом гаметоц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нин из Јужне Америке у Европу 163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 избора за профилаксу и л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чење резистентних о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. falciparum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et viv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егије са високим ризик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нхониз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нитус, ослабљен слух, главобоља, визуелне сметње, мука, дијаре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лок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триг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централни ефек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ИМАКИ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вни шизонтоци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хипнозои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радикација (лечење) P. vivax и o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eumocysti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jirove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са клиндамицин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фолина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нос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хемоглобинемија, дигестивне тего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лиза: особе са наследним дефицитом Г6П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ТАЛИ АНТИМАЛАРИ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ифо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иаминопиримидини: пириметамин (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едуктаза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улфонамид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 сулфон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ихидроптеорат синтетаз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улфадоксин, дапсон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игваниди: прогванил (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едуктаза-тимидилат синтетаза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ириметамин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сулфадоксин (FansidarR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Дапсон + хлорпрогвани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респиратоног ла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товаквон (цитохром бц1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лус прогванил (Malarone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ТАЛИ АНТИМАЛАРИЦИ</a:t>
            </a: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килирајући аге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сквитерпенски лакт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и ендоперокс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тремизинин, артемет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р, артесу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ије описана клинички значајна резист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нантренметаноли: халофантрин, лумефантр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сл. хинолини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теме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лумефантрин (C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am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ибиотици: доксицикл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дамиц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Лумeфaнт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умeфaнтрин je aрил-aлкoхoлни дeривaт хaлoфaнтрин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икснoj кoмбинaциjи сa aртeмeтeрoмкoристи зa лeчeњe мaлaриje изaзвaн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lasmodium falciparu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o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личнo je eфикaсa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глeдa дa имa слaбиjу кaрдиoтoксичнoст oд хaлoфaнтрин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упљи oд вeћинe других aлтeрнaтивa штo му oгрaничaвa ширу примe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РЕЗИСТЕНЦИЈА ПЛАЗМОДИЈУ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Xлорокин-резистентни сојеви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t, Pfmdr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. фалципарум, свуда ос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ариби и Централна Америка (сем Панаме), Аргентина и Парагвај, северна Африка, делови Блиског и Средњег Истока, Коре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. вивакс, значајно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апуа Нова Гвинеја и Индонез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уелни подаци: СЗО, ЦД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ЕРАПИЈА НАПА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зистентн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. falciparum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et viv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емисинин комбинована терапија (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есунат/амодиакин, артеметер/лумефантрин, дихидроартемисинин/пипераквин, артесунат/мефл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ни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/хинидин, плу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сициклин, клиндамицин, п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риметамин/сулфадок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флокин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товаквон/прогва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smodium vivax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сензитивни)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v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кин потом прима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smodium malar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АРАЗИТИ И ЛЕКОВ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ЗОЕ - једноћелијске животињ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мебициди и антималариц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ЛИМИНТИ - ц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нтихелминтиц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ТРОПОДЕ - ектопараз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нсектициди и репелен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ФИЛАКСА МАЛАР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штитне 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егавати комарце у сумрак и з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сити одећу која покрива откривне делов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истити репеленте (ДЕЕТ) и постељину натопљену инсектицидима (пиретр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штитна мрежа за сп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иопрофилакса (леко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зонтоцидне концентрације лека у време инфекције плазмодиј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ељу пре путовања (нежељена дејства лека), за време боравка и 4 недеље после дола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ХЕМИОПРОФИЛАК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 сензитивних соје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лорокин (недељ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 резистентних сој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о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/прогвани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мефлокин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ксициклин, прима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спектна малариј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о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/прогва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арија у трудноћ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рокин или хин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илакса: хлорокин са прогванилом и фолном кисл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ЈШМАНИОЗ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сте и подврсте род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eishman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реносе му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целуларно, грануломи: висцерални органи, кожа и слуз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церална лајшманиоза с. КалаАз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donova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Индија/Африк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infan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Медитеран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chaga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ови Св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жна (кутана) лајшманиоза (спонтано зацеље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tropica, L. мајо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тари Свет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mexicana, Л. мајо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ови Св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ко-кутана лајшманиоза (Нови С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brasiliensis, L. panamen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ЈШМАНИОЗЕ - ТЕРАП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нерално, постојећи лекови нису ни довољно безбедни ни ефика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ињења антимо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глумин антимонат и На-стибоглук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нтамидин изетионат (метанесулфон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фотерицин, паромомицин (аминосидин), интерферони, алопуринол, милтефо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ПАНОЗОМИЈАЗ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фричка спаваћа болес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мува Це-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ypanosoma brucei gambiense Duton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hodesi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сен: меларсопрол и трипарсам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риш-Херксхајмерова ре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рами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протеинур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нтамидин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укопен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флорнитин, дифлуорометилорнитин (арсен-резистентни сојев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а америчка трипанозомијаза (Ј. Амер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ypanosoma cruzi Cha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гасова болест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фуртимокс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ли 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зида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сични,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х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задовољавајући 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oкaлнa тeрaпиja лејшманиоз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oлeсници с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тaнoм лejшмaниjaзo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aли ризик зa дисeминaциjу бoлe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aгим oбликoм (мaњe oд 4 лeзиje, нe вeћe oд 5 ц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дан од следеће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њeкциja нaтриjум стибoглукoнaтa у лeзиje (20 мг/кг нeдeљнo, 8-10 нeдeљ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aрoмoмицин у виду мaсти (двa путa днeвнo, 20 дaн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oтeрaпиja тeчним aзoтoм (дo 3 aпликaци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1028880" y="1714680"/>
          <a:ext cx="7111800" cy="49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14680"/>
                    <a:ext cx="711180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Друге протозо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ХЕЛИМИНТИ – црв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атоде (ваљкасти цр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ревн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Ascaris, Enterobius, Trichuris, Necator, Ankylostoma, Toxocara, Strongyloides, Trichinel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иларијаз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Onchocerca, Wurchereria, Brugia, Lo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матоде (метиљ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ави метиљи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asciola, Paragonim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шистозом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Shistozo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стоде (пантљича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ревне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aenia, Diphylobothrium, Hymenolep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истични, ткивни облици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chinococ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Нематод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аве у цревима (геохелмин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носе се фекално-оралним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caris lumbricoides, Enterobius vermicularis, Trichuris trichi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рве улазе кроз кожу, преносе се и фекално-ор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ator americanus, Ankylostoma dode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рве улазе кроз кожу, бур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зна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кутана ларва мигр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ongyloides stercoralis, Ancylostoma brasil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рве захватају орг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xocara canis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церална/окуларна ларва мигра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ichinella spiralis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рихине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кално-орална инфестација, ларве излазе кроз кож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racunculus medin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БЕНЗИМИДАЗО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штећење микротубула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ул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а дејства: инхибиција транспорта глук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бендаз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ltri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 је избора за већину нема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бендазол (Bimen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бно ларварни облици 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е пантиљич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еома безбедни, опрез труднице и мала деца (1-2 г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абенд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иснут, знатно 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сичнији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НС, хепатотоксично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ТОЗОЕ - једноћелијске животињ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меб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amoeba histoly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е протозо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lantidium, Giardia, Isospora, Toxoplasma, Tricho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ариј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m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јшманијаз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ish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анозомијаз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ypan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ТА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рантел памо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аришућ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мишић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антел памо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 пирантел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пек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пера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азива млитаву парали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и лекови, ретко се кори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и алтернатива нитроимидазолима за децу и труд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Филар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пска 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аве у екстраинтестинално (лимфатици, о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ларије и микрофиларије (лар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осе их муве и комар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мфатична (елефантиј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rchereria bancrofti, Brugia mala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и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чно слепило (онкоцерциј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chocerca volv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кови и филар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ермек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ктивира хлорне канале регулисане глутаматом и ГАБА-ом, парализа парази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иларијазе, нематоде (кутана ларва мигранс) и ектопарази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етилкарбама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штећује органеле и макромолекул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лакшава дејство имуних механиза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отијев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лергијска 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нзибилизације на протеине мртвих парази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Arial"/>
              </a:rPr>
              <a:t>Метиљи и пантљичар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матоде (метиљ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ciola hepatica, Opisthorchis spp., Clonorchis sinen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рево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ciolopsis bu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ућа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aragonimus westerm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лхар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istozoma haematubium, japonicum  et mans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стоде (пантљича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ревне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enia solium еt saginata, Diphyllobothrium latum, Hymenolepis nana et diminuta, Dipylidium cani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стични, ткивни облици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ysticercosis (T. solium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Echinococcus granulosus et multlocu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кови, метиљи и пантљич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зиквант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лук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+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ција, парализа, тегумент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иљ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им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сциола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нтљичар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осим цистичне форм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мникин, артем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рифонат- органофосфатни инсектиц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инол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 триклабендазо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елики мети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клоза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хиби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идативну фосфорилацију и преузимање глу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нтљичаре (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 убија јајашца и ци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едикулоз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culus hunamus corporis -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не захтева примену лекова већ дезинсекцију одела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изичка средства (српско буре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нсектициди: малатион, ДД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culus humanus capitis (гла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аја одстрањивати густим цешље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tirius pubis пубис (стидни преде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лечити партнера код стидних ваш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пија: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стектиц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ерметри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тетски пиретроид (&gt;2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ретрум - сирови екстракт биљк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rysanthemum cincerar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ретрин - пречишћен екстракт, мешавина три ес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ретрин 1/2, цинерин 1/2, и јасмолин 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уротоксичан, блокира N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нале, пар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чност за људе је релативно слаба, мање од 2% се ресорбује, тровања-ЦНС стимул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ликовати 10 мин, испрати, ишчешљати и поновити за 7-10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руги педикулоц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дан - хексахлороциклохексан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мабензенхексахлори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рганохлорни инсектицид, ефикасан скабицид и педикулоци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ко 10% се ресорбује и акумулира у масном ткив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не примењивати у трудноћи, конвулзивни (неуротоксични) потенција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атион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хибитор холинесте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ино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инoсa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дикулoцид изoлoвaн из прoдукaтa фeрмeнтaциj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ccharopolyspora spino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шaв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инoзинa A и Д у oднoсу 5: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aзивa нeурaлну eксцитaциjу инсeктa, пoслeдичну пaрaлизу и eлиминaциj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рмацеутски облик и инди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9% суспeнзиj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a лeчeњe вaшљивoсти глaв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днoм aпликoвaн, oдстojи 10 минутa пa сe испeрe и пo пoтрeби пoнoви зa 7-10 дaн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пр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aдржи бeнзил aлкoхoл пa сe нe прeпoручуje кoд oдojчaди млaдje oд 6 мeсe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Шуга -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rcoptes scabie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ликовати лек на целу кожу сем лица (очиј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деце, старих и имунокомпромитованих и ко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вити 8-1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4 ч.), поновити за 7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ити све укућане, чистоћа одела и постељине (пегл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мебијаза -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Etamoeba histoly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овати непатогене амебе/протоз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симптомат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инвазива, доминирају цистични обл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птоматска (инвазивн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стин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ни (недизентерични) колитис (дијаре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на дизен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ома црева (може да наликује тум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бни апендиц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страинтестин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тра, плућа, мозак, слезина и други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кабицид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мет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н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ермек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и скабицид, не иритира, непријатан мирис и б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и избор у трудноћи и одојч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ципитирани сумпор, 5% у петроле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тами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нзил бензо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МЕБИЦИД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минални амебиц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дилоксанид-фуро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јодокинол и др. (потиснути због токсичност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антибиотици: паромомицин, тетрациклини, еритромиц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кивни амебиц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итроимидазоли: метронидазол, тинидазол, орнидаз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ују и на луминалне али је брза ресорп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дихидро)еметин, хлорокин - ефикасни али токсич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МЕТРОНИДАЗО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укује се у паразиту (фередоксини, PFOR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тро-радикал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штећење макромолек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вазивна амеб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е протозе: трихомонијаза, ђард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ероби и микроареофил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teroides, Clostridium, Helicobacter, Campylob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гести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тегобе, стоматитис, метални укус неуротоксичност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ж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са алкохолом (!), дисулфирам-лај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ЛЕЧЕЊЕ АМЕБИЈАЗ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цоноше-асимптоматс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минални амебицид, 7-20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стинал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ронидазол, п.о., 5-10 дана,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уминални амеб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траинтестинал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ронидазол, и.в., 10 дана, 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уминални амебици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потреби аспирација садр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АЛАРИJ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viv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енигна маларија терција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o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, слично као вивак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malar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аларија квартана (средње тешк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dium falcipa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аларија терцијана/субтерцијана (малигн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ДЕЈСТВО АНТИМАЛАРИ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један лек не убија спорозо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је могуће спречити инфекцију, али је могуће спречити развој симптома маларије који су узроковани асексуалним фор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један лек није ефикасан против свих облика (хепатичних и еритроцитарних) који могу егзистирати код истог пациј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тно излечење захтева примену комбинације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2:01:12Z</dcterms:modified>
  <cp:revision>19</cp:revision>
  <dc:subject/>
  <dc:title>Slide 1</dc:title>
</cp:coreProperties>
</file>